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media/image50.wmf" ContentType="image/x-wmf"/>
  <Override PartName="/ppt/media/image46.wmf" ContentType="image/x-wmf"/>
  <Override PartName="/ppt/media/ricochet.wav" ContentType="audio/x-wav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9.wmf" ContentType="image/x-wmf"/>
  <Override PartName="/ppt/media/WHOOSH.WAV" ContentType="audio/x-wav"/>
  <Override PartName="/ppt/media/image16.wmf" ContentType="image/x-wmf"/>
  <Override PartName="/ppt/media/image4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28.wmf" ContentType="image/x-wmf"/>
  <Override PartName="/ppt/media/image68.gif" ContentType="image/gif"/>
  <Override PartName="/ppt/media/image10.wmf" ContentType="image/x-wmf"/>
  <Override PartName="/ppt/media/image47.wmf" ContentType="image/x-wmf"/>
  <Override PartName="/ppt/media/image12.wmf" ContentType="image/x-wmf"/>
  <Override PartName="/ppt/media/image51.wmf" ContentType="image/x-wmf"/>
  <Override PartName="/ppt/media/image52.wmf" ContentType="image/x-wmf"/>
  <Override PartName="/ppt/media/image55.wmf" ContentType="image/x-wmf"/>
  <Override PartName="/ppt/media/image21.wmf" ContentType="image/x-wmf"/>
  <Override PartName="/ppt/media/image58.wmf" ContentType="image/x-wmf"/>
  <Override PartName="/ppt/media/image56.wmf" ContentType="image/x-wmf"/>
  <Override PartName="/ppt/media/image57.wmf" ContentType="image/x-wmf"/>
  <Override PartName="/ppt/media/image60.wmf" ContentType="image/x-wmf"/>
  <Override PartName="/ppt/media/image59.wmf" ContentType="image/x-wmf"/>
  <Override PartName="/ppt/media/image61.wmf" ContentType="image/x-wmf"/>
  <Override PartName="/ppt/media/image62.wmf" ContentType="image/x-wmf"/>
  <Override PartName="/ppt/media/image76.wmf" ContentType="image/x-wmf"/>
  <Override PartName="/ppt/media/EXPLODE.WAV" ContentType="audio/x-wav"/>
  <Override PartName="/ppt/media/image64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0.wmf" ContentType="image/x-wmf"/>
  <Override PartName="/ppt/media/image49.wmf" ContentType="image/x-wmf"/>
  <Override PartName="/ppt/media/CHIMES.WAV" ContentType="audio/x-wav"/>
  <Override PartName="/ppt/media/image71.wmf" ContentType="image/x-wmf"/>
  <Override PartName="/ppt/media/image69.wmf" ContentType="image/x-wmf"/>
  <Override PartName="/ppt/media/image32.wmf" ContentType="image/x-wmf"/>
  <Override PartName="/ppt/media/image53.wmf" ContentType="image/x-wmf"/>
  <Override PartName="/ppt/media/carbrake.wav" ContentType="audio/x-wav"/>
  <Override PartName="/ppt/media/CAMERA.WAV" ContentType="audio/x-wav"/>
  <Override PartName="/ppt/media/image45.wmf" ContentType="image/x-wmf"/>
  <Override PartName="/ppt/media/image65.wmf" ContentType="image/x-wmf"/>
  <Override PartName="/ppt/media/image67.wmf" ContentType="image/x-wmf"/>
  <Override PartName="/ppt/media/image66.wmf" ContentType="image/x-wmf"/>
  <Override PartName="/ppt/media/image11.wmf" ContentType="image/x-wmf"/>
  <Override PartName="/ppt/media/image48.wmf" ContentType="image/x-wmf"/>
  <Override PartName="/ppt/media/gunshot.wav" ContentType="audio/x-wav"/>
  <Override PartName="/ppt/media/image25.wmf" ContentType="image/x-wmf"/>
  <Override PartName="/ppt/media/image20.wmf" ContentType="image/x-wmf"/>
  <Override PartName="/ppt/media/driveby.wav" ContentType="audio/x-wav"/>
  <Override PartName="/ppt/media/image15.wmf" ContentType="image/x-wmf"/>
  <Override PartName="/ppt/media/image3.wmf" ContentType="image/x-wmf"/>
  <Override PartName="/ppt/media/image33.wmf" ContentType="image/x-wmf"/>
  <Override PartName="/ppt/media/image34.wmf" ContentType="image/x-wmf"/>
  <Override PartName="/ppt/media/image13.wmf" ContentType="image/x-wmf"/>
  <Override PartName="/ppt/media/image1.wmf" ContentType="image/x-wmf"/>
  <Override PartName="/ppt/media/image31.wmf" ContentType="image/x-wmf"/>
  <Override PartName="/ppt/media/image2.wmf" ContentType="image/x-wmf"/>
  <Override PartName="/ppt/media/image54.gif" ContentType="image/gif"/>
  <Override PartName="/ppt/media/image14.wmf" ContentType="image/x-wmf"/>
  <Override PartName="/ppt/media/LASER.WAV" ContentType="audio/x-wav"/>
  <Override PartName="/ppt/media/applause.wav" ContentType="audio/x-wav"/>
  <Override PartName="/ppt/media/image63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36.wmf" ContentType="image/x-wmf"/>
  <Override PartName="/ppt/media/image18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5DE3-1DE0-4E8F-A59D-24BBD8D68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897E-8661-4B33-B89C-37A6FBA2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32FF-6CD0-44E4-9EB4-93C908A97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8811-30CB-4802-A7D2-14D687FF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35AF-866A-428A-91D8-0EBF68F5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06AF-41E6-43D2-BF0C-9411EF90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C239-61A2-4B67-8B72-AE09B824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2C05-1279-4ECC-809E-EE3A3AB6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B669-EBE9-4C84-8C95-3771E2CC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45FD-85B4-4D3D-8D77-9678255F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4135-8BB3-43CE-A9F7-C755F96F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1436-1596-432E-AB53-D3A58559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4656-CBBE-4287-8A06-24D3EB632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wmf"/><Relationship Id="rId23" Type="http://schemas.openxmlformats.org/officeDocument/2006/relationships/audio" Target="../media/WHOOSH.WAV"/><Relationship Id="rId24" Type="http://schemas.openxmlformats.org/officeDocument/2006/relationships/audio" Target="../media/CHIMES.WAV"/><Relationship Id="rId25" Type="http://schemas.openxmlformats.org/officeDocument/2006/relationships/audio" Target="../media/CAMERA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driveby.wav"/><Relationship Id="rId29" Type="http://schemas.openxmlformats.org/officeDocument/2006/relationships/audio" Target="../media/EXPLODE.WAV"/><Relationship Id="rId30" Type="http://schemas.openxmlformats.org/officeDocument/2006/relationships/audio" Target="../media/EXPLODE.WAV"/><Relationship Id="rId31" Type="http://schemas.openxmlformats.org/officeDocument/2006/relationships/audio" Target="../media/driveby.wav"/><Relationship Id="rId32" Type="http://schemas.openxmlformats.org/officeDocument/2006/relationships/audio" Target="../media/LASER.WAV"/><Relationship Id="rId33" Type="http://schemas.openxmlformats.org/officeDocument/2006/relationships/audio" Target="../media/driveby.wav"/><Relationship Id="rId34" Type="http://schemas.openxmlformats.org/officeDocument/2006/relationships/audio" Target="../media/LASER.WAV"/><Relationship Id="rId35" Type="http://schemas.openxmlformats.org/officeDocument/2006/relationships/audio" Target="../media/EXPLODE.WAV"/><Relationship Id="rId36" Type="http://schemas.openxmlformats.org/officeDocument/2006/relationships/audio" Target="../media/EXPLODE.WAV"/><Relationship Id="rId37" Type="http://schemas.openxmlformats.org/officeDocument/2006/relationships/audio" Target="../media/CAMERA.WAV"/><Relationship Id="rId38" Type="http://schemas.openxmlformats.org/officeDocument/2006/relationships/audio" Target="../media/gunshot.wav"/><Relationship Id="rId39" Type="http://schemas.openxmlformats.org/officeDocument/2006/relationships/audio" Target="../media/gunshot.wav"/><Relationship Id="rId40" Type="http://schemas.openxmlformats.org/officeDocument/2006/relationships/audio" Target="../media/driveby.wav"/><Relationship Id="rId41" Type="http://schemas.openxmlformats.org/officeDocument/2006/relationships/audio" Target="../media/driveby.wav"/><Relationship Id="rId42" Type="http://schemas.openxmlformats.org/officeDocument/2006/relationships/audio" Target="../media/applause.wav"/><Relationship Id="rId4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8.wmf"/><Relationship Id="rId23" Type="http://schemas.openxmlformats.org/officeDocument/2006/relationships/audio" Target="../media/CAMERA.WAV"/><Relationship Id="rId24" Type="http://schemas.openxmlformats.org/officeDocument/2006/relationships/audio" Target="../media/LASER.WAV"/><Relationship Id="rId25" Type="http://schemas.openxmlformats.org/officeDocument/2006/relationships/audio" Target="../media/LASER.WAV"/><Relationship Id="rId26" Type="http://schemas.openxmlformats.org/officeDocument/2006/relationships/audio" Target="../media/driveby.wav"/><Relationship Id="rId27" Type="http://schemas.openxmlformats.org/officeDocument/2006/relationships/audio" Target="../media/EXPLODE.WAV"/><Relationship Id="rId28" Type="http://schemas.openxmlformats.org/officeDocument/2006/relationships/audio" Target="../media/EXPLODE.WAV"/><Relationship Id="rId29" Type="http://schemas.openxmlformats.org/officeDocument/2006/relationships/audio" Target="../media/driveby.wav"/><Relationship Id="rId30" Type="http://schemas.openxmlformats.org/officeDocument/2006/relationships/audio" Target="../media/LASER.WAV"/><Relationship Id="rId31" Type="http://schemas.openxmlformats.org/officeDocument/2006/relationships/audio" Target="../media/driveby.wav"/><Relationship Id="rId32" Type="http://schemas.openxmlformats.org/officeDocument/2006/relationships/audio" Target="../media/LASER.WAV"/><Relationship Id="rId33" Type="http://schemas.openxmlformats.org/officeDocument/2006/relationships/audio" Target="../media/EXPLODE.WAV"/><Relationship Id="rId34" Type="http://schemas.openxmlformats.org/officeDocument/2006/relationships/audio" Target="../media/EXPLODE.WAV"/><Relationship Id="rId35" Type="http://schemas.openxmlformats.org/officeDocument/2006/relationships/audio" Target="../media/CAMERA.WAV"/><Relationship Id="rId36" Type="http://schemas.openxmlformats.org/officeDocument/2006/relationships/audio" Target="../media/gunshot.wav"/><Relationship Id="rId37" Type="http://schemas.openxmlformats.org/officeDocument/2006/relationships/audio" Target="../media/gunshot.wav"/><Relationship Id="rId38" Type="http://schemas.openxmlformats.org/officeDocument/2006/relationships/audio" Target="../media/driveby.wav"/><Relationship Id="rId39" Type="http://schemas.openxmlformats.org/officeDocument/2006/relationships/audio" Target="../media/driveby.wav"/><Relationship Id="rId40" Type="http://schemas.openxmlformats.org/officeDocument/2006/relationships/audio" Target="../media/applause.wav"/><Relationship Id="rId4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7.wmf"/><Relationship Id="rId21" Type="http://schemas.openxmlformats.org/officeDocument/2006/relationships/audio" Target="../media/CAMERA.WAV"/><Relationship Id="rId22" Type="http://schemas.openxmlformats.org/officeDocument/2006/relationships/audio" Target="../media/LASER.WAV"/><Relationship Id="rId23" Type="http://schemas.openxmlformats.org/officeDocument/2006/relationships/audio" Target="../media/LASER.WAV"/><Relationship Id="rId24" Type="http://schemas.openxmlformats.org/officeDocument/2006/relationships/audio" Target="../media/driveby.wav"/><Relationship Id="rId25" Type="http://schemas.openxmlformats.org/officeDocument/2006/relationships/audio" Target="../media/EXPLODE.WAV"/><Relationship Id="rId26" Type="http://schemas.openxmlformats.org/officeDocument/2006/relationships/audio" Target="../media/EXPLODE.WAV"/><Relationship Id="rId27" Type="http://schemas.openxmlformats.org/officeDocument/2006/relationships/audio" Target="../media/LASER.WAV"/><Relationship Id="rId28" Type="http://schemas.openxmlformats.org/officeDocument/2006/relationships/audio" Target="../media/LASER.WAV"/><Relationship Id="rId29" Type="http://schemas.openxmlformats.org/officeDocument/2006/relationships/audio" Target="../media/EXPLODE.WAV"/><Relationship Id="rId30" Type="http://schemas.openxmlformats.org/officeDocument/2006/relationships/audio" Target="../media/EXPLODE.WAV"/><Relationship Id="rId31" Type="http://schemas.openxmlformats.org/officeDocument/2006/relationships/audio" Target="../media/CAMERA.WAV"/><Relationship Id="rId32" Type="http://schemas.openxmlformats.org/officeDocument/2006/relationships/audio" Target="../media/gunshot.wav"/><Relationship Id="rId33" Type="http://schemas.openxmlformats.org/officeDocument/2006/relationships/audio" Target="../media/gunshot.wav"/><Relationship Id="rId34" Type="http://schemas.openxmlformats.org/officeDocument/2006/relationships/audio" Target="../media/driveby.wav"/><Relationship Id="rId35" Type="http://schemas.openxmlformats.org/officeDocument/2006/relationships/audio" Target="../media/driveby.wav"/><Relationship Id="rId36" Type="http://schemas.openxmlformats.org/officeDocument/2006/relationships/audio" Target="../media/applause.wav"/><Relationship Id="rId3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5.wmf"/><Relationship Id="rId25" Type="http://schemas.openxmlformats.org/officeDocument/2006/relationships/audio" Target="../media/CAMERA.WAV"/><Relationship Id="rId26" Type="http://schemas.openxmlformats.org/officeDocument/2006/relationships/audio" Target="../media/CHIMES.WAV"/><Relationship Id="rId27" Type="http://schemas.openxmlformats.org/officeDocument/2006/relationships/audio" Target="../media/LASER.WAV"/><Relationship Id="rId28" Type="http://schemas.openxmlformats.org/officeDocument/2006/relationships/audio" Target="../media/LASER.WAV"/><Relationship Id="rId29" Type="http://schemas.openxmlformats.org/officeDocument/2006/relationships/audio" Target="../media/driveby.wav"/><Relationship Id="rId30" Type="http://schemas.openxmlformats.org/officeDocument/2006/relationships/audio" Target="../media/EXPLODE.WAV"/><Relationship Id="rId31" Type="http://schemas.openxmlformats.org/officeDocument/2006/relationships/audio" Target="../media/EXPLODE.WAV"/><Relationship Id="rId32" Type="http://schemas.openxmlformats.org/officeDocument/2006/relationships/audio" Target="../media/driveby.wav"/><Relationship Id="rId33" Type="http://schemas.openxmlformats.org/officeDocument/2006/relationships/audio" Target="../media/LASER.WAV"/><Relationship Id="rId34" Type="http://schemas.openxmlformats.org/officeDocument/2006/relationships/audio" Target="../media/driveby.wav"/><Relationship Id="rId35" Type="http://schemas.openxmlformats.org/officeDocument/2006/relationships/audio" Target="../media/LASER.WAV"/><Relationship Id="rId36" Type="http://schemas.openxmlformats.org/officeDocument/2006/relationships/audio" Target="../media/EXPLODE.WAV"/><Relationship Id="rId37" Type="http://schemas.openxmlformats.org/officeDocument/2006/relationships/audio" Target="../media/EXPLODE.WAV"/><Relationship Id="rId38" Type="http://schemas.openxmlformats.org/officeDocument/2006/relationships/audio" Target="../media/CAMERA.WAV"/><Relationship Id="rId39" Type="http://schemas.openxmlformats.org/officeDocument/2006/relationships/audio" Target="../media/gunshot.wav"/><Relationship Id="rId40" Type="http://schemas.openxmlformats.org/officeDocument/2006/relationships/audio" Target="../media/gunshot.wav"/><Relationship Id="rId41" Type="http://schemas.openxmlformats.org/officeDocument/2006/relationships/audio" Target="../media/driveby.wav"/><Relationship Id="rId42" Type="http://schemas.openxmlformats.org/officeDocument/2006/relationships/audio" Target="../media/driveby.wav"/><Relationship Id="rId43" Type="http://schemas.openxmlformats.org/officeDocument/2006/relationships/audio" Target="../media/applause.wav"/><Relationship Id="rId4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5.wmf"/><Relationship Id="rId27" Type="http://schemas.openxmlformats.org/officeDocument/2006/relationships/audio" Target="../media/CAMERA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LASER.WAV"/><Relationship Id="rId31" Type="http://schemas.openxmlformats.org/officeDocument/2006/relationships/audio" Target="../media/LASER.WAV"/><Relationship Id="rId32" Type="http://schemas.openxmlformats.org/officeDocument/2006/relationships/audio" Target="../media/driveby.wav"/><Relationship Id="rId33" Type="http://schemas.openxmlformats.org/officeDocument/2006/relationships/audio" Target="../media/EXPLODE.WAV"/><Relationship Id="rId34" Type="http://schemas.openxmlformats.org/officeDocument/2006/relationships/audio" Target="../media/EXPLODE.WAV"/><Relationship Id="rId35" Type="http://schemas.openxmlformats.org/officeDocument/2006/relationships/audio" Target="../media/driveby.wav"/><Relationship Id="rId36" Type="http://schemas.openxmlformats.org/officeDocument/2006/relationships/audio" Target="../media/LASER.WAV"/><Relationship Id="rId37" Type="http://schemas.openxmlformats.org/officeDocument/2006/relationships/audio" Target="../media/driveby.wav"/><Relationship Id="rId38" Type="http://schemas.openxmlformats.org/officeDocument/2006/relationships/audio" Target="../media/LASER.WAV"/><Relationship Id="rId39" Type="http://schemas.openxmlformats.org/officeDocument/2006/relationships/audio" Target="../media/EXPLODE.WAV"/><Relationship Id="rId40" Type="http://schemas.openxmlformats.org/officeDocument/2006/relationships/audio" Target="../media/EXPLODE.WAV"/><Relationship Id="rId41" Type="http://schemas.openxmlformats.org/officeDocument/2006/relationships/audio" Target="../media/CAMERA.WAV"/><Relationship Id="rId42" Type="http://schemas.openxmlformats.org/officeDocument/2006/relationships/audio" Target="../media/gunshot.wav"/><Relationship Id="rId43" Type="http://schemas.openxmlformats.org/officeDocument/2006/relationships/audio" Target="../media/ricochet.wav"/><Relationship Id="rId44" Type="http://schemas.openxmlformats.org/officeDocument/2006/relationships/audio" Target="../media/ricochet.wav"/><Relationship Id="rId45" Type="http://schemas.openxmlformats.org/officeDocument/2006/relationships/audio" Target="../media/gunshot.wav"/><Relationship Id="rId46" Type="http://schemas.openxmlformats.org/officeDocument/2006/relationships/audio" Target="../media/driveby.wav"/><Relationship Id="rId47" Type="http://schemas.openxmlformats.org/officeDocument/2006/relationships/audio" Target="../media/driveby.wav"/><Relationship Id="rId48" Type="http://schemas.openxmlformats.org/officeDocument/2006/relationships/audio" Target="../media/applause.wav"/><Relationship Id="rId4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3.wmf"/><Relationship Id="rId23" Type="http://schemas.openxmlformats.org/officeDocument/2006/relationships/audio" Target="../media/CAMERA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driveby.wav"/><Relationship Id="rId29" Type="http://schemas.openxmlformats.org/officeDocument/2006/relationships/audio" Target="../media/EXPLODE.WAV"/><Relationship Id="rId30" Type="http://schemas.openxmlformats.org/officeDocument/2006/relationships/audio" Target="../media/EXPLODE.WAV"/><Relationship Id="rId31" Type="http://schemas.openxmlformats.org/officeDocument/2006/relationships/audio" Target="../media/driveby.wav"/><Relationship Id="rId32" Type="http://schemas.openxmlformats.org/officeDocument/2006/relationships/audio" Target="../media/LASER.WAV"/><Relationship Id="rId33" Type="http://schemas.openxmlformats.org/officeDocument/2006/relationships/audio" Target="../media/driveby.wav"/><Relationship Id="rId34" Type="http://schemas.openxmlformats.org/officeDocument/2006/relationships/audio" Target="../media/LASER.WAV"/><Relationship Id="rId35" Type="http://schemas.openxmlformats.org/officeDocument/2006/relationships/audio" Target="../media/EXPLODE.WAV"/><Relationship Id="rId36" Type="http://schemas.openxmlformats.org/officeDocument/2006/relationships/audio" Target="../media/EXPLODE.WAV"/><Relationship Id="rId37" Type="http://schemas.openxmlformats.org/officeDocument/2006/relationships/audio" Target="../media/CAMERA.WAV"/><Relationship Id="rId38" Type="http://schemas.openxmlformats.org/officeDocument/2006/relationships/audio" Target="../media/gunshot.wav"/><Relationship Id="rId39" Type="http://schemas.openxmlformats.org/officeDocument/2006/relationships/audio" Target="../media/gunshot.wav"/><Relationship Id="rId40" Type="http://schemas.openxmlformats.org/officeDocument/2006/relationships/audio" Target="../media/driveby.wav"/><Relationship Id="rId41" Type="http://schemas.openxmlformats.org/officeDocument/2006/relationships/audio" Target="../media/driveby.wav"/><Relationship Id="rId42" Type="http://schemas.openxmlformats.org/officeDocument/2006/relationships/audio" Target="../media/applause.wav"/><Relationship Id="rId4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0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61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62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5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62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63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64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65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64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66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67.wmf"/><Relationship Id="rId36" Type="http://schemas.openxmlformats.org/officeDocument/2006/relationships/audio" Target="../media/CHIMES.WAV"/><Relationship Id="rId37" Type="http://schemas.openxmlformats.org/officeDocument/2006/relationships/audio" Target="../media/CHIMES.WAV"/><Relationship Id="rId38" Type="http://schemas.openxmlformats.org/officeDocument/2006/relationships/audio" Target="../media/CAMERA.WAV"/><Relationship Id="rId39" Type="http://schemas.openxmlformats.org/officeDocument/2006/relationships/audio" Target="../media/gunshot.wav"/><Relationship Id="rId40" Type="http://schemas.openxmlformats.org/officeDocument/2006/relationships/audio" Target="../media/gunshot.wav"/><Relationship Id="rId41" Type="http://schemas.openxmlformats.org/officeDocument/2006/relationships/audio" Target="../media/WHOOSH.WAV"/><Relationship Id="rId42" Type="http://schemas.openxmlformats.org/officeDocument/2006/relationships/audio" Target="../media/WHOOSH.WAV"/><Relationship Id="rId43" Type="http://schemas.openxmlformats.org/officeDocument/2006/relationships/audio" Target="../media/LASER.WAV"/><Relationship Id="rId44" Type="http://schemas.openxmlformats.org/officeDocument/2006/relationships/audio" Target="../media/WHOOSH.WAV"/><Relationship Id="rId45" Type="http://schemas.openxmlformats.org/officeDocument/2006/relationships/audio" Target="../media/LASER.WAV"/><Relationship Id="rId46" Type="http://schemas.openxmlformats.org/officeDocument/2006/relationships/audio" Target="../media/WHOOSH.WAV"/><Relationship Id="rId47" Type="http://schemas.openxmlformats.org/officeDocument/2006/relationships/audio" Target="../media/LASER.WAV"/><Relationship Id="rId48" Type="http://schemas.openxmlformats.org/officeDocument/2006/relationships/audio" Target="../media/WHOOSH.WAV"/><Relationship Id="rId49" Type="http://schemas.openxmlformats.org/officeDocument/2006/relationships/audio" Target="../media/CAMERA.WAV"/><Relationship Id="rId50" Type="http://schemas.openxmlformats.org/officeDocument/2006/relationships/audio" Target="../media/CAMERA.WAV"/><Relationship Id="rId51" Type="http://schemas.openxmlformats.org/officeDocument/2006/relationships/audio" Target="../media/CAMERA.WAV"/><Relationship Id="rId52" Type="http://schemas.openxmlformats.org/officeDocument/2006/relationships/audio" Target="../media/CAMERA.WAV"/><Relationship Id="rId53" Type="http://schemas.openxmlformats.org/officeDocument/2006/relationships/audio" Target="../media/LASER.WAV"/><Relationship Id="rId54" Type="http://schemas.openxmlformats.org/officeDocument/2006/relationships/audio" Target="../media/LASER.WAV"/><Relationship Id="rId55" Type="http://schemas.openxmlformats.org/officeDocument/2006/relationships/audio" Target="../media/driveby.wav"/><Relationship Id="rId56" Type="http://schemas.openxmlformats.org/officeDocument/2006/relationships/audio" Target="../media/EXPLODE.WAV"/><Relationship Id="rId57" Type="http://schemas.openxmlformats.org/officeDocument/2006/relationships/audio" Target="../media/EXPLODE.WAV"/><Relationship Id="rId58" Type="http://schemas.openxmlformats.org/officeDocument/2006/relationships/audio" Target="../media/driveby.wav"/><Relationship Id="rId59" Type="http://schemas.openxmlformats.org/officeDocument/2006/relationships/audio" Target="../media/LASER.WAV"/><Relationship Id="rId60" Type="http://schemas.openxmlformats.org/officeDocument/2006/relationships/audio" Target="../media/driveby.wav"/><Relationship Id="rId61" Type="http://schemas.openxmlformats.org/officeDocument/2006/relationships/audio" Target="../media/LASER.WAV"/><Relationship Id="rId62" Type="http://schemas.openxmlformats.org/officeDocument/2006/relationships/audio" Target="../media/EXPLODE.WAV"/><Relationship Id="rId63" Type="http://schemas.openxmlformats.org/officeDocument/2006/relationships/audio" Target="../media/EXPLODE.WAV"/><Relationship Id="rId64" Type="http://schemas.openxmlformats.org/officeDocument/2006/relationships/audio" Target="../media/EXPLODE.WAV"/><Relationship Id="rId65" Type="http://schemas.openxmlformats.org/officeDocument/2006/relationships/audio" Target="../media/carbrake.wav"/><Relationship Id="rId6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8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0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7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7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5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73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74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1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75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11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32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76.wmf"/><Relationship Id="rId36" Type="http://schemas.openxmlformats.org/officeDocument/2006/relationships/audio" Target="../media/CHIMES.WAV"/><Relationship Id="rId37" Type="http://schemas.openxmlformats.org/officeDocument/2006/relationships/audio" Target="../media/CAMERA.WAV"/><Relationship Id="rId38" Type="http://schemas.openxmlformats.org/officeDocument/2006/relationships/audio" Target="../media/gunshot.wav"/><Relationship Id="rId39" Type="http://schemas.openxmlformats.org/officeDocument/2006/relationships/audio" Target="../media/WHOOSH.WAV"/><Relationship Id="rId40" Type="http://schemas.openxmlformats.org/officeDocument/2006/relationships/audio" Target="../media/WHOOSH.WAV"/><Relationship Id="rId41" Type="http://schemas.openxmlformats.org/officeDocument/2006/relationships/audio" Target="../media/LASER.WAV"/><Relationship Id="rId42" Type="http://schemas.openxmlformats.org/officeDocument/2006/relationships/audio" Target="../media/WHOOSH.WAV"/><Relationship Id="rId43" Type="http://schemas.openxmlformats.org/officeDocument/2006/relationships/audio" Target="../media/LASER.WAV"/><Relationship Id="rId44" Type="http://schemas.openxmlformats.org/officeDocument/2006/relationships/audio" Target="../media/WHOOSH.WAV"/><Relationship Id="rId45" Type="http://schemas.openxmlformats.org/officeDocument/2006/relationships/audio" Target="../media/LASER.WAV"/><Relationship Id="rId46" Type="http://schemas.openxmlformats.org/officeDocument/2006/relationships/audio" Target="../media/WHOOSH.WAV"/><Relationship Id="rId47" Type="http://schemas.openxmlformats.org/officeDocument/2006/relationships/audio" Target="../media/CAMERA.WAV"/><Relationship Id="rId48" Type="http://schemas.openxmlformats.org/officeDocument/2006/relationships/audio" Target="../media/CAMERA.WAV"/><Relationship Id="rId49" Type="http://schemas.openxmlformats.org/officeDocument/2006/relationships/audio" Target="../media/CAMERA.WAV"/><Relationship Id="rId50" Type="http://schemas.openxmlformats.org/officeDocument/2006/relationships/audio" Target="../media/CAMERA.WAV"/><Relationship Id="rId51" Type="http://schemas.openxmlformats.org/officeDocument/2006/relationships/audio" Target="../media/LASER.WAV"/><Relationship Id="rId52" Type="http://schemas.openxmlformats.org/officeDocument/2006/relationships/audio" Target="../media/LASER.WAV"/><Relationship Id="rId53" Type="http://schemas.openxmlformats.org/officeDocument/2006/relationships/audio" Target="../media/driveby.wav"/><Relationship Id="rId54" Type="http://schemas.openxmlformats.org/officeDocument/2006/relationships/audio" Target="../media/EXPLODE.WAV"/><Relationship Id="rId55" Type="http://schemas.openxmlformats.org/officeDocument/2006/relationships/audio" Target="../media/EXPLODE.WAV"/><Relationship Id="rId56" Type="http://schemas.openxmlformats.org/officeDocument/2006/relationships/audio" Target="../media/driveby.wav"/><Relationship Id="rId57" Type="http://schemas.openxmlformats.org/officeDocument/2006/relationships/audio" Target="../media/LASER.WAV"/><Relationship Id="rId58" Type="http://schemas.openxmlformats.org/officeDocument/2006/relationships/audio" Target="../media/driveby.wav"/><Relationship Id="rId59" Type="http://schemas.openxmlformats.org/officeDocument/2006/relationships/audio" Target="../media/LASER.WAV"/><Relationship Id="rId60" Type="http://schemas.openxmlformats.org/officeDocument/2006/relationships/audio" Target="../media/EXPLODE.WAV"/><Relationship Id="rId61" Type="http://schemas.openxmlformats.org/officeDocument/2006/relationships/audio" Target="../media/EXPLODE.WAV"/><Relationship Id="rId62" Type="http://schemas.openxmlformats.org/officeDocument/2006/relationships/audio" Target="../media/EXPLODE.WAV"/><Relationship Id="rId63" Type="http://schemas.openxmlformats.org/officeDocument/2006/relationships/audio" Target="../media/carbrake.wav"/><Relationship Id="rId6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3581280"/>
            <a:ext cx="2743200" cy="99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1219320"/>
          <a:ext cx="3355920" cy="70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3355920" cy="70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809720" y="2971800"/>
          <a:ext cx="46692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09720" y="2971800"/>
                    <a:ext cx="4669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1828800" y="3809880"/>
          <a:ext cx="515880" cy="6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3809880"/>
                    <a:ext cx="51588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105000" y="2971800"/>
          <a:ext cx="46692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05000" y="2971800"/>
                    <a:ext cx="4669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371600" y="2971800"/>
            <a:ext cx="1143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362320" y="3657600"/>
          <a:ext cx="1341360" cy="620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62320" y="3657600"/>
                    <a:ext cx="1341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895480" y="2971800"/>
            <a:ext cx="8384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3880" y="1752480"/>
          <a:ext cx="830520" cy="612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3880" y="1752480"/>
                    <a:ext cx="8305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1600200" y="2362320"/>
          <a:ext cx="825480" cy="774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0200" y="2362320"/>
                    <a:ext cx="8254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819520" y="1752480"/>
          <a:ext cx="830160" cy="612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19520" y="1752480"/>
                    <a:ext cx="8301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1447920" y="2362320"/>
            <a:ext cx="22096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286000" y="2362320"/>
          <a:ext cx="1650960" cy="620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86000" y="2362320"/>
                    <a:ext cx="16509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572000" y="990720"/>
                <a:ext cx="40370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6" name=""/>
          <p:cNvGraphicFramePr/>
          <p:nvPr/>
        </p:nvGraphicFramePr>
        <p:xfrm>
          <a:off x="4952880" y="1828800"/>
          <a:ext cx="3429000" cy="652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952880" y="1828800"/>
                    <a:ext cx="342900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5943600" y="2590920"/>
          <a:ext cx="2286000" cy="652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43600" y="2590920"/>
                    <a:ext cx="228600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8229600" y="2743200"/>
            <a:ext cx="162000" cy="26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8381880" y="2514600"/>
            <a:ext cx="381240" cy="53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3581280"/>
            <a:ext cx="2743200" cy="99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98440" y="1289160"/>
          <a:ext cx="321480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1289160"/>
                    <a:ext cx="321480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628640" y="2971800"/>
          <a:ext cx="82872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28640" y="2971800"/>
                    <a:ext cx="828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057400" y="3809880"/>
          <a:ext cx="619200" cy="51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3809880"/>
                    <a:ext cx="6192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924280" y="2971800"/>
          <a:ext cx="83016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24280" y="2971800"/>
                    <a:ext cx="8301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1371600" y="2971800"/>
            <a:ext cx="1143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90920" y="3733920"/>
          <a:ext cx="928440" cy="620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90920" y="3733920"/>
                    <a:ext cx="9284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3048120" y="2971800"/>
            <a:ext cx="9144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1752480"/>
          <a:ext cx="882720" cy="612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5800" y="1752480"/>
                    <a:ext cx="882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1371600" y="2362320"/>
          <a:ext cx="1290600" cy="620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371600" y="2362320"/>
                    <a:ext cx="12906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793960" y="1752480"/>
          <a:ext cx="882720" cy="612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93960" y="1752480"/>
                    <a:ext cx="882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914400" y="2362320"/>
            <a:ext cx="27432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590920" y="2362320"/>
          <a:ext cx="1341360" cy="620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590920" y="2362320"/>
                    <a:ext cx="1341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4120" y="1066680"/>
                <a:ext cx="315252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6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7" name=""/>
          <p:cNvGraphicFramePr/>
          <p:nvPr/>
        </p:nvGraphicFramePr>
        <p:xfrm>
          <a:off x="5791320" y="1905120"/>
          <a:ext cx="2452680" cy="684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791320" y="1905120"/>
                    <a:ext cx="245268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6705720" y="2666880"/>
          <a:ext cx="1371600" cy="684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705720" y="2666880"/>
                    <a:ext cx="137160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8153280" y="2819520"/>
            <a:ext cx="152640" cy="22860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8305920" y="2514600"/>
            <a:ext cx="380880" cy="53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4343400"/>
            <a:ext cx="2743200" cy="99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066680"/>
          <a:ext cx="2882880" cy="14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6680"/>
                    <a:ext cx="288288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057400" y="4572000"/>
          <a:ext cx="51588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4572000"/>
                    <a:ext cx="5158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486160" y="4495680"/>
          <a:ext cx="1290600" cy="62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6160" y="4495680"/>
                    <a:ext cx="129060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1828800" y="2209680"/>
          <a:ext cx="77940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28800" y="2209680"/>
                    <a:ext cx="7794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2590920" y="2209680"/>
          <a:ext cx="779400" cy="612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90920" y="2209680"/>
                    <a:ext cx="7794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990720" y="2819520"/>
            <a:ext cx="27432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562720" y="990720"/>
          <a:ext cx="2851200" cy="177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990720"/>
                    <a:ext cx="2851200" cy="17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6019920" y="2895480"/>
          <a:ext cx="2338200" cy="684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19920" y="2895480"/>
                    <a:ext cx="233820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877080" y="3962520"/>
          <a:ext cx="1485720" cy="684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77080" y="3962520"/>
                    <a:ext cx="148572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8381880" y="4114800"/>
            <a:ext cx="152640" cy="22860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8534520" y="3809880"/>
            <a:ext cx="380880" cy="53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219320" y="3048120"/>
                <a:ext cx="9604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048120" y="3048120"/>
                <a:ext cx="9651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7" name=""/>
          <p:cNvGraphicFramePr/>
          <p:nvPr/>
        </p:nvGraphicFramePr>
        <p:xfrm>
          <a:off x="1828800" y="2666880"/>
          <a:ext cx="619200" cy="1603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28800" y="2666880"/>
                    <a:ext cx="61920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2489040" y="3124080"/>
          <a:ext cx="981360" cy="621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489040" y="3124080"/>
                    <a:ext cx="98136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33720" y="4343400"/>
            <a:ext cx="2743200" cy="99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58840" y="1360440"/>
          <a:ext cx="397044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840" y="1360440"/>
                    <a:ext cx="397044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2514600" y="3733920"/>
          <a:ext cx="46512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3733920"/>
                    <a:ext cx="4651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2743200" y="4572000"/>
          <a:ext cx="515880" cy="51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4572000"/>
                    <a:ext cx="5158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733920" y="3733920"/>
          <a:ext cx="46656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33920" y="3733920"/>
                    <a:ext cx="4665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2362320" y="373392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200400" y="4495680"/>
          <a:ext cx="981000" cy="621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00400" y="4495680"/>
                    <a:ext cx="98100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3581280" y="3733920"/>
            <a:ext cx="9144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38280" y="2514600"/>
          <a:ext cx="830520" cy="612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38280" y="2514600"/>
                    <a:ext cx="8305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362320" y="3124080"/>
          <a:ext cx="774720" cy="622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362320" y="3124080"/>
                    <a:ext cx="77472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3352680" y="2514600"/>
          <a:ext cx="830520" cy="612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352680" y="2514600"/>
                    <a:ext cx="8305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1447920" y="3124080"/>
            <a:ext cx="27432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124080" y="3124080"/>
          <a:ext cx="1238400" cy="621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124080" y="3124080"/>
                    <a:ext cx="123840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572000" y="1371600"/>
                <a:ext cx="4572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6" name=""/>
          <p:cNvGraphicFramePr/>
          <p:nvPr/>
        </p:nvGraphicFramePr>
        <p:xfrm>
          <a:off x="5486400" y="2286000"/>
          <a:ext cx="3421080" cy="684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86400" y="2286000"/>
                    <a:ext cx="342108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7048440" y="3352680"/>
          <a:ext cx="1600200" cy="684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048440" y="3352680"/>
                    <a:ext cx="160020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8610480" y="3505320"/>
            <a:ext cx="152640" cy="22860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8763120" y="3200400"/>
            <a:ext cx="380880" cy="53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28800" y="1981080"/>
          <a:ext cx="2363760" cy="5670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28800" y="1981080"/>
                    <a:ext cx="236376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905120" y="5029200"/>
            <a:ext cx="2743200" cy="99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28600" y="1219320"/>
                <a:ext cx="40323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6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8" name=""/>
          <p:cNvGraphicFramePr/>
          <p:nvPr/>
        </p:nvGraphicFramePr>
        <p:xfrm>
          <a:off x="2111400" y="4419720"/>
          <a:ext cx="77616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1400" y="4419720"/>
                    <a:ext cx="7761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2590920" y="5181480"/>
          <a:ext cx="465120" cy="67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5181480"/>
                    <a:ext cx="46512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406680" y="4419720"/>
          <a:ext cx="777960" cy="61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06680" y="4419720"/>
                    <a:ext cx="7779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1828800" y="4419720"/>
            <a:ext cx="1143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971800" y="5257800"/>
          <a:ext cx="1341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5257800"/>
                    <a:ext cx="1341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3505320" y="4419720"/>
            <a:ext cx="9144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600200" y="3124080"/>
          <a:ext cx="830160" cy="612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00200" y="3124080"/>
                    <a:ext cx="8301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2209680" y="3733920"/>
          <a:ext cx="878040" cy="672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09680" y="3733920"/>
                    <a:ext cx="87804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276720" y="3200400"/>
          <a:ext cx="83016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76720" y="3200400"/>
                    <a:ext cx="8301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1371600" y="3809880"/>
            <a:ext cx="27432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021120" y="3809880"/>
          <a:ext cx="1187280" cy="621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21120" y="3809880"/>
                    <a:ext cx="11872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724280" y="1143000"/>
                <a:ext cx="41148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356080" y="1925640"/>
                <a:ext cx="33022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9" name=""/>
          <p:cNvGraphicFramePr/>
          <p:nvPr/>
        </p:nvGraphicFramePr>
        <p:xfrm>
          <a:off x="7048440" y="2895480"/>
          <a:ext cx="1600200" cy="684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48440" y="2895480"/>
                    <a:ext cx="160020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8610480" y="3048120"/>
            <a:ext cx="152640" cy="22860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8763120" y="2743200"/>
            <a:ext cx="380880" cy="53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371600" y="1905120"/>
          <a:ext cx="2789280" cy="614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371600" y="1905120"/>
                    <a:ext cx="278928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2057400" y="2590920"/>
          <a:ext cx="2031840" cy="614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057400" y="2590920"/>
                    <a:ext cx="203184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5791320" y="2044800"/>
          <a:ext cx="628560" cy="6271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91320" y="2044800"/>
                    <a:ext cx="6285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6526080" y="2043000"/>
          <a:ext cx="628920" cy="6271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526080" y="2043000"/>
                    <a:ext cx="6289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776240" y="4452840"/>
            <a:ext cx="2743200" cy="1676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0" y="1274760"/>
                <a:ext cx="45864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5" name=""/>
          <p:cNvGraphicFramePr/>
          <p:nvPr/>
        </p:nvGraphicFramePr>
        <p:xfrm>
          <a:off x="1959120" y="3733920"/>
          <a:ext cx="77616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9120" y="3733920"/>
                    <a:ext cx="7761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2309760" y="5062680"/>
          <a:ext cx="465120" cy="51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09760" y="5062680"/>
                    <a:ext cx="4651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352680" y="3733920"/>
          <a:ext cx="777960" cy="61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3733920"/>
                    <a:ext cx="7779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676520" y="3733920"/>
            <a:ext cx="1143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743200" y="4495680"/>
          <a:ext cx="1084320" cy="160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4495680"/>
                    <a:ext cx="108432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3352680" y="3733920"/>
            <a:ext cx="9144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828800" y="2514600"/>
          <a:ext cx="1141560" cy="612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28800" y="2514600"/>
                    <a:ext cx="11415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828800" y="3124080"/>
          <a:ext cx="1031760" cy="622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3124080"/>
                    <a:ext cx="103176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968560" y="2514600"/>
          <a:ext cx="114156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68560" y="2514600"/>
                    <a:ext cx="11415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1219320" y="3124080"/>
            <a:ext cx="27432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817720" y="3124080"/>
          <a:ext cx="1290600" cy="621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17720" y="3124080"/>
                    <a:ext cx="129060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002200" y="844560"/>
                <a:ext cx="4141800" cy="16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5641920" y="2592360"/>
                <a:ext cx="2739960" cy="18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26" name=""/>
          <p:cNvGraphicFramePr/>
          <p:nvPr/>
        </p:nvGraphicFramePr>
        <p:xfrm>
          <a:off x="6686640" y="4648320"/>
          <a:ext cx="1485720" cy="684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686640" y="4648320"/>
                    <a:ext cx="148572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8191440" y="4800600"/>
            <a:ext cx="152640" cy="22860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8344080" y="4495680"/>
            <a:ext cx="380880" cy="53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914400" y="1981080"/>
          <a:ext cx="1986120" cy="567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14400" y="1981080"/>
                    <a:ext cx="198612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2819520" y="1981080"/>
          <a:ext cx="1181160" cy="567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819520" y="1981080"/>
                    <a:ext cx="118116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500"/>
                            </p:stCondLst>
                            <p:childTnLst>
                              <p:par>
                                <p:cTn id="53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499080" y="1249200"/>
            <a:ext cx="2644920" cy="15876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237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olving a Real-Life Probl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39" name=""/>
          <p:cNvGraphicFramePr/>
          <p:nvPr/>
        </p:nvGraphicFramePr>
        <p:xfrm>
          <a:off x="318960" y="4522680"/>
          <a:ext cx="449280" cy="60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8960" y="4522680"/>
                    <a:ext cx="44928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0" y="990720"/>
            <a:ext cx="7149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7. A parking garage charges $3 plus $1.50 per hour. You have $12 to spend for parking. Write and solve an equation to find the number of hours that you can pa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752480" y="3429000"/>
          <a:ext cx="601920" cy="603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3429000"/>
                    <a:ext cx="60192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0" y="26668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Verb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276720"/>
            <a:ext cx="1447560" cy="10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Initial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191120" y="3505320"/>
            <a:ext cx="15238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#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5715000" y="3656160"/>
          <a:ext cx="609480" cy="492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15000" y="3656160"/>
                    <a:ext cx="60948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6248520" y="3505320"/>
            <a:ext cx="25905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Total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600200" y="4419720"/>
          <a:ext cx="554040" cy="718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00200" y="4419720"/>
                    <a:ext cx="55404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3581280" y="566748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imes New Roman"/>
              </a:rPr>
              <a:t>The longest you can park is 6 hou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660760" y="2622600"/>
          <a:ext cx="6208560" cy="711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660760" y="2622600"/>
                    <a:ext cx="620856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2057400" y="4492800"/>
          <a:ext cx="1606680" cy="663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057400" y="4492800"/>
                    <a:ext cx="160668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6423480" y="98748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94160" y="68256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multi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0" y="3276720"/>
            <a:ext cx="1447920" cy="10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Rate for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733920" y="3581280"/>
          <a:ext cx="492120" cy="547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733920" y="3581280"/>
                    <a:ext cx="49212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623880" y="4522680"/>
          <a:ext cx="1147680" cy="600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23880" y="4522680"/>
                    <a:ext cx="114768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1219320" y="6245280"/>
          <a:ext cx="776160" cy="6127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219320" y="6245280"/>
                    <a:ext cx="7761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4876920" y="4572000"/>
          <a:ext cx="517320" cy="6732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876920" y="4572000"/>
                    <a:ext cx="5173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2612880" y="6245280"/>
          <a:ext cx="777960" cy="6127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612880" y="6245280"/>
                    <a:ext cx="7779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936720" y="6245280"/>
            <a:ext cx="1143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5334120" y="4114800"/>
          <a:ext cx="1393560" cy="16034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334120" y="4114800"/>
                    <a:ext cx="139356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2612880" y="6245280"/>
            <a:ext cx="9144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0" y="5029200"/>
          <a:ext cx="830160" cy="6127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0" y="5029200"/>
                    <a:ext cx="8301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1063800" y="5610240"/>
          <a:ext cx="1083960" cy="67464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1063800" y="5610240"/>
                    <a:ext cx="108396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2666880" y="5029200"/>
          <a:ext cx="830520" cy="6127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2666880" y="5029200"/>
                    <a:ext cx="8305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479520" y="5635800"/>
            <a:ext cx="27432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2232000" y="5635800"/>
          <a:ext cx="981000" cy="62064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2232000" y="5635800"/>
                    <a:ext cx="9810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6615000" y="4572000"/>
          <a:ext cx="2529000" cy="67320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6615000" y="4572000"/>
                    <a:ext cx="25290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954840" y="274680"/>
            <a:ext cx="2508120" cy="25081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288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olving a Real-Life Probl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0" name=""/>
          <p:cNvGraphicFramePr/>
          <p:nvPr/>
        </p:nvGraphicFramePr>
        <p:xfrm>
          <a:off x="318960" y="4522680"/>
          <a:ext cx="449280" cy="60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8960" y="4522680"/>
                    <a:ext cx="44928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0" y="990720"/>
            <a:ext cx="706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8. As a lifeguard, you can earn $6 per day plus $2.50 per hour. Write and solve an equation to find how many hours you must work to earn $16 in one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752480" y="3429000"/>
          <a:ext cx="601920" cy="603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3429000"/>
                    <a:ext cx="60192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0" y="26668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Verb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3276720"/>
            <a:ext cx="1447560" cy="10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Days W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3505320"/>
            <a:ext cx="15238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#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5638680" y="3657600"/>
          <a:ext cx="609840" cy="492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38680" y="3657600"/>
                    <a:ext cx="60984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6095880" y="3505320"/>
            <a:ext cx="28195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Total Earn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600200" y="4419720"/>
          <a:ext cx="554040" cy="718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00200" y="4419720"/>
                    <a:ext cx="55404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4114800" y="56674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imes New Roman"/>
              </a:rPr>
              <a:t>You must work at least 4 hou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2757600" y="2673360"/>
          <a:ext cx="6386400" cy="711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757600" y="2673360"/>
                    <a:ext cx="63864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2084400" y="4492800"/>
          <a:ext cx="1550880" cy="663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084400" y="4492800"/>
                    <a:ext cx="155088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1514880" y="1406520"/>
            <a:ext cx="7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3276720"/>
            <a:ext cx="1447920" cy="10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Rate for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3733920" y="3581280"/>
          <a:ext cx="492120" cy="547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733920" y="3581280"/>
                    <a:ext cx="49212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598320" y="4522680"/>
          <a:ext cx="1198800" cy="600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98320" y="4522680"/>
                    <a:ext cx="119880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1166760" y="6245280"/>
          <a:ext cx="881280" cy="6127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166760" y="6245280"/>
                    <a:ext cx="8812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4724280" y="4572000"/>
          <a:ext cx="517680" cy="6732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724280" y="4572000"/>
                    <a:ext cx="51768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2560680" y="6245280"/>
          <a:ext cx="882720" cy="6127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560680" y="6245280"/>
                    <a:ext cx="882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"/>
          <p:cNvSpPr/>
          <p:nvPr/>
        </p:nvSpPr>
        <p:spPr>
          <a:xfrm>
            <a:off x="936720" y="6245280"/>
            <a:ext cx="1143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105520" y="4114800"/>
          <a:ext cx="1652400" cy="16034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105520" y="4114800"/>
                    <a:ext cx="165240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2612880" y="6245280"/>
            <a:ext cx="9144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0" y="5029200"/>
          <a:ext cx="830160" cy="6127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0" y="5029200"/>
                    <a:ext cx="8301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1012680" y="5610240"/>
          <a:ext cx="1187640" cy="67464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1012680" y="5610240"/>
                    <a:ext cx="118764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2743200" y="5029200"/>
          <a:ext cx="830160" cy="61272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2743200" y="5029200"/>
                    <a:ext cx="8301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479520" y="5635800"/>
            <a:ext cx="27432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2133720" y="5638680"/>
          <a:ext cx="1238040" cy="62100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2133720" y="5638680"/>
                    <a:ext cx="12380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6615000" y="4572000"/>
          <a:ext cx="2529000" cy="67320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6615000" y="4572000"/>
                    <a:ext cx="25290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0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500"/>
                            </p:stCondLst>
                            <p:childTnLst>
                              <p:par>
                                <p:cTn id="8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4-09-10T13:41:59Z</dcterms:modified>
  <cp:revision>158</cp:revision>
  <dc:subject/>
  <dc:title>No Slide Title</dc:title>
</cp:coreProperties>
</file>